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143080" y="685440"/>
            <a:ext cx="25718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D8070-C026-4301-87F2-469B0BF7DEFE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52FB2-5892-4DAF-B587-0441004F1719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85D48-5950-4CBF-8A67-EBAC7913B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7AA2C-D862-4470-9F0B-0EEF4F172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7D854-4F2D-4425-85BA-9BA8C6B11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8B90C-11F8-43C5-B409-34BBC0BAF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3785E-FE91-4CE2-957C-A395B5E5C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6B8AD-7FA7-4BB1-9269-FD1D1A053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BE489-D197-4FF2-B5DA-1544DDF65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080CD-5BED-4425-BBAA-90B550D3E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37E46-036E-4BA3-A3B9-388FB69EC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FA25F-5AB6-4692-8F11-16561778E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AAB89-24FD-4A15-89E6-59BC70B85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E70C6-9514-472D-A202-9F3B548A5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8D8CE-47CA-4DEB-9A9D-9FD13849F57D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2502720" y="214920"/>
            <a:ext cx="1800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1" lang="ko-KR" sz="25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입 사 지 원 서 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57120" y="6000840"/>
          <a:ext cx="6215040" cy="1073160"/>
        </p:xfrm>
        <a:graphic>
          <a:graphicData uri="http://schemas.openxmlformats.org/drawingml/2006/table">
            <a:tbl>
              <a:tblPr/>
              <a:tblGrid>
                <a:gridCol w="571680"/>
                <a:gridCol w="1133280"/>
                <a:gridCol w="1081080"/>
                <a:gridCol w="642960"/>
                <a:gridCol w="1212840"/>
                <a:gridCol w="855720"/>
                <a:gridCol w="717480"/>
              </a:tblGrid>
              <a:tr h="232920"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능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점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357120" y="7143840"/>
          <a:ext cx="6215040" cy="1357200"/>
        </p:xfrm>
        <a:graphic>
          <a:graphicData uri="http://schemas.openxmlformats.org/drawingml/2006/table">
            <a:tbl>
              <a:tblPr/>
              <a:tblGrid>
                <a:gridCol w="571680"/>
                <a:gridCol w="484200"/>
                <a:gridCol w="1230120"/>
                <a:gridCol w="571680"/>
                <a:gridCol w="642960"/>
                <a:gridCol w="866520"/>
                <a:gridCol w="865440"/>
                <a:gridCol w="982440"/>
              </a:tblGrid>
              <a:tr h="246240">
                <a:tc rowSpan="5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가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관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장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동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357120" y="4643280"/>
          <a:ext cx="6215040" cy="1301760"/>
        </p:xfrm>
        <a:graphic>
          <a:graphicData uri="http://schemas.openxmlformats.org/drawingml/2006/table">
            <a:tbl>
              <a:tblPr/>
              <a:tblGrid>
                <a:gridCol w="571680"/>
                <a:gridCol w="988920"/>
                <a:gridCol w="2087640"/>
                <a:gridCol w="1152360"/>
                <a:gridCol w="684360"/>
                <a:gridCol w="730080"/>
              </a:tblGrid>
              <a:tr h="3625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력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 회사명 및 부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~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미디어로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영지원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357120" y="4000680"/>
          <a:ext cx="6215040" cy="568080"/>
        </p:xfrm>
        <a:graphic>
          <a:graphicData uri="http://schemas.openxmlformats.org/drawingml/2006/table">
            <a:tbl>
              <a:tblPr/>
              <a:tblGrid>
                <a:gridCol w="571680"/>
                <a:gridCol w="809640"/>
                <a:gridCol w="690480"/>
                <a:gridCol w="690480"/>
                <a:gridCol w="690480"/>
                <a:gridCol w="690840"/>
                <a:gridCol w="690480"/>
                <a:gridCol w="690480"/>
                <a:gridCol w="690480"/>
              </a:tblGrid>
              <a:tr h="195480">
                <a:tc rowSpan="2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역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필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    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    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     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제사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복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357120" y="2057400"/>
          <a:ext cx="6215040" cy="571680"/>
        </p:xfrm>
        <a:graphic>
          <a:graphicData uri="http://schemas.openxmlformats.org/drawingml/2006/table">
            <a:tbl>
              <a:tblPr/>
              <a:tblGrid>
                <a:gridCol w="1243080"/>
                <a:gridCol w="1243080"/>
                <a:gridCol w="1243080"/>
                <a:gridCol w="784080"/>
                <a:gridCol w="1701720"/>
              </a:tblGrid>
              <a:tr h="30492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락처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핸드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E-mai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54" name="Picture 240" descr=""/>
          <p:cNvPicPr/>
          <p:nvPr/>
        </p:nvPicPr>
        <p:blipFill>
          <a:blip r:embed="rId1"/>
          <a:stretch/>
        </p:blipFill>
        <p:spPr>
          <a:xfrm>
            <a:off x="357120" y="285840"/>
            <a:ext cx="949320" cy="428400"/>
          </a:xfrm>
          <a:prstGeom prst="rect">
            <a:avLst/>
          </a:prstGeom>
          <a:ln w="0">
            <a:noFill/>
          </a:ln>
        </p:spPr>
      </p:pic>
      <p:sp>
        <p:nvSpPr>
          <p:cNvPr id="55" name="TextBox 11"/>
          <p:cNvSpPr/>
          <p:nvPr/>
        </p:nvSpPr>
        <p:spPr>
          <a:xfrm>
            <a:off x="266760" y="8734320"/>
            <a:ext cx="633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상기 지원자의 개인정보는 당사 채용에 필요한 업무에만 활용됨을 알려 드립니다</a:t>
            </a: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5873040" y="478440"/>
            <a:ext cx="63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신입사원용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357120" y="757080"/>
          <a:ext cx="6215040" cy="1212840"/>
        </p:xfrm>
        <a:graphic>
          <a:graphicData uri="http://schemas.openxmlformats.org/drawingml/2006/table">
            <a:tbl>
              <a:tblPr/>
              <a:tblGrid>
                <a:gridCol w="912960"/>
                <a:gridCol w="1230120"/>
                <a:gridCol w="1500480"/>
                <a:gridCol w="1000080"/>
                <a:gridCol w="1571400"/>
              </a:tblGrid>
              <a:tr h="30348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  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생년월일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  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보훈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장애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371520" y="2697120"/>
          <a:ext cx="6205320" cy="1241640"/>
        </p:xfrm>
        <a:graphic>
          <a:graphicData uri="http://schemas.openxmlformats.org/drawingml/2006/table">
            <a:tbl>
              <a:tblPr/>
              <a:tblGrid>
                <a:gridCol w="571320"/>
                <a:gridCol w="571680"/>
                <a:gridCol w="1143000"/>
                <a:gridCol w="700200"/>
                <a:gridCol w="1008000"/>
                <a:gridCol w="1025280"/>
                <a:gridCol w="546120"/>
                <a:gridCol w="639720"/>
              </a:tblGrid>
              <a:tr h="365400">
                <a:tc row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대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 교 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  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  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득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  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졸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분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등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476280" y="565200"/>
          <a:ext cx="5952960" cy="614988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474480">
                <a:tc gridSpan="2"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개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3556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직사유 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동기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사 후 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한 동기와 잘 할 수 있는 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,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그리고 그 일을 하기 위해 어떤 준비를 하였는지 말하시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984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무기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 성공 및 실패사례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인이 가장 열정과 관심을 쏟았던 분야 및 이를 통해 성취한 성공 및 실패 사례를 구체적으로 기술하시기 바랍니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0" name="Picture 240" descr=""/>
          <p:cNvPicPr/>
          <p:nvPr/>
        </p:nvPicPr>
        <p:blipFill>
          <a:blip r:embed="rId1"/>
          <a:stretch/>
        </p:blipFill>
        <p:spPr>
          <a:xfrm>
            <a:off x="479520" y="96840"/>
            <a:ext cx="949320" cy="42876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"/>
          <p:cNvSpPr/>
          <p:nvPr/>
        </p:nvSpPr>
        <p:spPr>
          <a:xfrm>
            <a:off x="455760" y="7826400"/>
            <a:ext cx="59464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와 같이 귀사에 입사를 희망하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 기재내용이 사실과 다른 경우에는 귀사의 어떤 조치에도 이의를 제기치 않겠습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용 업무에 한해 입사지원서에 기입한 개인정보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화번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력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격사항 등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활용에 동의합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14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년  월  일        지원자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서명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500040" y="6786720"/>
          <a:ext cx="5907240" cy="896760"/>
        </p:xfrm>
        <a:graphic>
          <a:graphicData uri="http://schemas.openxmlformats.org/drawingml/2006/table">
            <a:tbl>
              <a:tblPr/>
              <a:tblGrid>
                <a:gridCol w="857160"/>
                <a:gridCol w="1000080"/>
                <a:gridCol w="2571840"/>
                <a:gridCol w="1478160"/>
              </a:tblGrid>
              <a:tr h="2077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근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읽은 도서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서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저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7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관련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2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 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09:49:00Z</dcterms:created>
  <dc:creator>LGDACOM</dc:creator>
  <dc:description/>
  <dc:language>en-US</dc:language>
  <cp:lastModifiedBy>medialog</cp:lastModifiedBy>
  <cp:lastPrinted>2011-01-27T06:54:10Z</cp:lastPrinted>
  <dcterms:modified xsi:type="dcterms:W3CDTF">2015-02-27T02:51:31Z</dcterms:modified>
  <cp:revision>123</cp:revision>
  <dc:subject/>
  <dc:title>슬라이드 1</dc:title>
</cp:coreProperties>
</file>