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720B9-B23C-443E-A379-CFB9E965D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23551-3383-45C6-87BE-2BC241FFC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D5DC4-5A3C-4B0D-B77C-43C8B61C0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38BF7-2E48-4C1A-823A-75A6BC1D5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97545-DE02-47A4-8A2D-B1CC76985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5FC41-FF54-4B6A-9652-AC20E46F8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F670E-456C-4A54-96C8-9E63258B0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0DCD0-AFD8-43FD-94BF-278085880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3620C-7072-429D-BA49-9EA3C1F6A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F6D5C-6BCE-4298-89CE-BA2C95ECB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8E743-B051-43C8-AA87-2A35024B5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135FB-F9B5-4A29-88D8-0C73B51D3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9DC1F-D331-4CAB-BB34-A686FA53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71B73-9F5B-44B3-B8B8-7E18B09A6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14E20-5FDD-4F21-B13E-77F10F9AC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A7362-B2A7-4FB6-96AE-7248A2D91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760BA-0268-447E-8D0D-0CB0DEFE9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EF25F-23E5-4537-9E06-83FC8F00E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82AFE-13F1-4A78-9034-4A8EF862D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6207D-F411-486B-8315-FBA4B598A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64BD6-0162-428B-91AB-A8CFB6009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2D286-8769-450A-99EA-F3FF017CC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F6B79-C8CF-4F78-BC1F-277858E1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DF298-1308-49AB-AFC7-8A2659B08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EE2E8-1976-4FE8-B7C8-B918000A18C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1235C-39F1-44E5-AE69-8E1D210360A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dfdef6"/>
                </a:solidFill>
                <a:latin typeface="굴림"/>
              </a:rPr>
              <a:t>캐슈도료 </a:t>
            </a:r>
            <a:r>
              <a:rPr b="0" lang="ko-KR" sz="5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장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와 금속에 대한 부착력이 좋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차량이나 목공용 밑바탕 도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구의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밥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기 등의 코팅에 많이 쓰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 도막은 내용제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耐溶劑性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 커서 다른 많은 도료를 겹쳐서 사용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격이 싸고 사용법이 간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5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9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7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1844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의 특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0%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도료 유해물질이 포함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내후성에 약한 결점을 보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의 역겨운 냄새와 독성을 대부분 제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 시 기포가 잘 일어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9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3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7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1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다른 도료와의 차이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하며 탄력성이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 혹은 가열건조가 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7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1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5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성능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질기고 탄력성이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하고 방청성능도 뛰어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 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Baking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가 가능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7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1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5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9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3" dur="5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건조구조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 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공기 중에 산화중합하여 자연건조 혹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        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 건조한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구 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건조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촉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간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경화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5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20℃/3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160℃/2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 방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스프레이도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5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9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3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1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5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향 후 전 망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도료의 원조로써 최대기술보유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철재 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많은 산업에 응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대수요국가이기도 한 일본을 공략 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7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1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5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13600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성 식물인 옻나무과 캐슈의 과실 껍질에 함유되어 있는 액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Cashew Nut Shell Liquid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을 주원료로 한 유성도료를 말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천연산 옻과 비슷한 성질로 합성 칠도료라고도 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정의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" dur="5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20728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역사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39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일본의 캐슈회사에서 최초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차 세계 대전으로  중단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전후 본격적 도료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5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나무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쌍떡잎나무 무환자 나무목 옻나무과의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상록 소과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분류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옻나무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원산지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브라질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지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크기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높이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0~15m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 열대지방이 원산지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자바 말레이시아등 전세계 열대지방에서 재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136000" cy="40305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1258920" y="692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캐슈나무 열매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의 제조 방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원액 → 산성백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규조토로 정제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에서 포르말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페놀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석탄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등을 작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주성분인 카르단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카르돌과 중합되게 가공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데히드 → 점조성의 흑갈색 액체를 얻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5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5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첨가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의 성질 개선 위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→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키드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멜라민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요소수지등을 첨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상온건조 가능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베이킹도료로도 사용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단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역시 내후성에 약한 최대결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품위나 질감 역시 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옻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에 비하여 월등히 떨어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합된 포르말린과 페놀수지의 유해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시에 완전건조는 옻보다 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중합시 건조시간을 단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연장을 불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색상이 어두워 조색이 어려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시 기포 발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9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1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5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 캐슈도료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천연유성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캐슈넛트쉘액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Dammar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Sandalac,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송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동나무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탈수한파마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잇꽃기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옻을 고온에서 중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성도료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렌지 오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박하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발삼오일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5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9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7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1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5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10:03Z</dcterms:modified>
  <cp:revision>29</cp:revision>
  <dc:subject/>
  <dc:title>천연 캐슈 도료</dc:title>
</cp:coreProperties>
</file>