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21D356-DD36-4DC0-A9A5-12EB97C94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2B898B-2971-4939-8F2D-9B775441C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14FC6-AEBE-4CD3-8EAB-A0DAF0119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C4C5CE-57FE-4721-B43D-CD0877785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0BEB4-58E5-4B04-A50B-CFCC93C6C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A6EDD-7273-47ED-BF2A-F0F0CCBB5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C511B-8A3B-4D62-8252-B0502A376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3AB35-A5C7-4FFB-9C98-307341B61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5905B-5EBD-41BF-9A49-8BC35C28E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182B3-AC0E-48A3-99E1-373DDAAD2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54DD2-23BE-4F42-8C56-4C1047294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F53728-8FAB-459D-A4A4-5719432B7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608EC-D2DB-4F11-9367-90720FD10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C3AF2-387F-4288-8488-C0EB71404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C186E-4CEC-4305-AB6E-A4FB7F26A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B9DC2-B0C0-453F-BBD6-EF3F420AE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465D0-FC60-4F2E-B6C9-D2D9922D8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80B2BF-9152-4B22-AF4B-CA65E8C19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221DCC-6B76-4931-A73F-C339A6670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7C7377-7EC8-4B51-89CD-D28EAF197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97A052-8AC6-4E3F-A72F-720A30971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F2926B-9EE0-440E-B578-AF2F3517E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50280D-077E-4257-9E79-E3DB55ADF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77F015-54D5-4B25-992B-0C107A15D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DE2B6-C674-4F75-A011-86D184EABB82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3982D-DC65-407B-9138-B6179F652FA7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S S P </a:t>
            </a:r>
            <a:r>
              <a:rPr b="0" lang="zh-CN" sz="5000" spc="-1" strike="noStrike">
                <a:solidFill>
                  <a:srgbClr val="ffffff"/>
                </a:solidFill>
                <a:latin typeface="굴림"/>
              </a:rPr>
              <a:t>치 료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376280" y="0"/>
            <a:ext cx="639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6869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219640" y="566100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7d"/>
                </a:solidFill>
                <a:latin typeface="굴림"/>
              </a:rPr>
              <a:t>경부 통증 유발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93080" cy="71308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500720" y="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깨 결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388360" cy="68454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95280" y="40464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오  십 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698328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1144440"/>
            <a:ext cx="9144000" cy="45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39640" y="-42840"/>
            <a:ext cx="799308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SSP(silver spike point electrode):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은도금한 삼각 원뿔 모양의 전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needleless acpunctur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분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표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개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흡인식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L: 100-14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약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M:145-195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H: 260-30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전류분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압박력에 비례하여 전류의 흐름이 많아짐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원추의 중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밀도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TENS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의 차이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개발의 유래가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SP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 마취를 통해 발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ENS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관문조절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효과점을 지향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동통 국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지배에 의거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모양이 다르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전방법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 혹은 고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의 장단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환자에게 안도감을 준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쾌적한 자극으로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⑶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린이 치료에 알맞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⑷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민증 환자에게 적용이 편리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⑸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극강도를 적절히 조절할 수 있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⑹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부작용이나 합병증이 없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⑺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로운 자세에서 치료가 가능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⑻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수단이 용이하고 치료방법이 간편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단점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체모가 많은 부분에 부착이 어려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적용 기술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일반적 적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의 선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경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응 양도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압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말초신경 경로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환측의 반대측 건측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거자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학적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point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선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극성에 따른 차이가 없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체 부위별 자극의 감수성을 도려해야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파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방향성 대칭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위상가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50-15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㎲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는 맥동폭은 좁게 전압은 높게 설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저항을 낮추기 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연속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적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간격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소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혼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서로 다른 주파수를 교대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 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Trimix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Random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세가지 주파수를 임의로 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weep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한가지 주파수를 단계적으로 변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4800600"/>
            <a:ext cx="76320" cy="685800"/>
          </a:xfrm>
          <a:custGeom>
            <a:avLst/>
            <a:gdLst>
              <a:gd name="textAreaLeft" fmla="*/ 22320 w 76320"/>
              <a:gd name="textAreaRight" fmla="*/ 76320 w 7632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주파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술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1Hz, 3Hz, 5Hz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 저빈도 주파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연속 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내인성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morphine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성 물질 유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0-49Hz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50Hz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밀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½Å¸íÁ¶"/>
              </a:rPr>
              <a:t>A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δ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및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C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섬유의 전도 차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통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취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순환개선 및 조절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항 종창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비 개선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암시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화관 안전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가골형성 촉진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금 기 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염 등으로 전극을 설치할 수 없는 경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인공 심장기 착용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심근 경색 등 중증 심장질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뇌혈관장애 직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열이 있을 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임신 초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8T08:51:36Z</dcterms:created>
  <dc:creator>win xp</dc:creator>
  <dc:description/>
  <dc:language>en-US</dc:language>
  <cp:lastModifiedBy>win xp</cp:lastModifiedBy>
  <dcterms:modified xsi:type="dcterms:W3CDTF">2005-04-29T20:09:15Z</dcterms:modified>
  <cp:revision>13</cp:revision>
  <dc:subject/>
  <dc:title>SSP, MC, FES</dc:title>
</cp:coreProperties>
</file>