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5D822-C81D-4DFB-899B-43332D6B7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C66A4-ACC4-43F7-AD94-51EF95D38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9B875-C6E3-44E3-A548-4993703C8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593FE-C69F-4B55-B47D-B03C3990D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423E4-7B02-4643-8EC5-DEE58DBE3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EA274-C8BB-425A-9517-5B1EA45D7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0B948-2B77-4CDA-9EDA-22F73BA54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9E440-468D-403C-A70A-3498D4BFA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5F22E-7962-417A-97A6-92992A00C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5A37D-BDB1-43AC-B1E2-6D672BD54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7A93D-A278-47BC-9296-661EAF618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B72B1-D9DA-43C3-B967-A338853BC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B26F3-A40D-4785-8EB9-0D7962C0C61A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380520" y="4952880"/>
            <a:ext cx="8533080" cy="13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용민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수경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979640" y="1197000"/>
            <a:ext cx="5040360" cy="178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위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지하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호선 백석역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7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번출구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도보로 약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아침에 지하철역 앞에 셔틀다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692360" y="2924280"/>
            <a:ext cx="547200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남 – 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머리 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장 단정하게 할 것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!!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토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매주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5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요일마다 일주일씩 구입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당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2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–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하루 정해서 병동에 내려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–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입원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외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동안 하루 정해서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치료실마다 하나씩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report 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치료실마다 하나씩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+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논문번역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ase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발표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024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질문 많음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대부분 용인대 출신 선생님들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환자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ransfer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해야 함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modality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루한 편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선생님 한 분과 같이 풀에 들어가서 관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성인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로 나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장점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부분의 전문적인 치료를 볼 수 있다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환자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est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간 주어짐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설 좋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밥 한식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양식 둘다 맛없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리적으로 멀리 위치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고시원 잡은 학생들 많았음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Staff</cp:lastModifiedBy>
  <dcterms:modified xsi:type="dcterms:W3CDTF">2009-04-11T08:29:06Z</dcterms:modified>
  <cp:revision>10</cp:revision>
  <dc:subject/>
  <dc:title>영남대학교의료원</dc:title>
</cp:coreProperties>
</file>